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7FD-BCDB-4D51-A28D-45DC77C9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76B-8F14-4072-95E6-0F8CFE7F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6D9-741D-4AA7-812A-D377C3DD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590-2DEB-4661-9CEF-FAA756B6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913-20AB-46A1-85DC-D314437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86C-2B11-49DB-8254-CD2AAE6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73D-3AF7-4562-8221-3C02951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FB4-8B6A-48E8-AE93-85E1A5AD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ED4-CA04-4E85-90EA-8715FC8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5D8-A33B-43F0-9A96-79767AB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3D6-ACE5-41F7-8F44-F95B783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E59-5761-484B-8F5F-910A7C1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467-A7BA-4F55-8146-3A2B2C2B49A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DE9E-623D-4B79-A76A-5B67603B7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0548" t="0" r="0" b="0"/>
          <a:stretch/>
        </p:blipFill>
        <p:spPr>
          <a:xfrm>
            <a:off x="250920" y="222120"/>
            <a:ext cx="338436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Jean-Pierre Hal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Head of Unit Rural Development, Food Security and 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DG Development-European Com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12" descr="Couv.jpg"/>
          <p:cNvPicPr/>
          <p:nvPr/>
        </p:nvPicPr>
        <p:blipFill>
          <a:blip r:embed="rId2"/>
          <a:stretch/>
        </p:blipFill>
        <p:spPr>
          <a:xfrm>
            <a:off x="0" y="977760"/>
            <a:ext cx="9144000" cy="447228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3"/>
          <p:cNvSpPr/>
          <p:nvPr/>
        </p:nvSpPr>
        <p:spPr>
          <a:xfrm>
            <a:off x="497160" y="1116000"/>
            <a:ext cx="78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Enhancing Maternal and Chil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in External Assistance: An EU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European Commission logo"/>
          <p:cNvPicPr/>
          <p:nvPr/>
        </p:nvPicPr>
        <p:blipFill>
          <a:blip r:embed="rId3"/>
          <a:stretch/>
        </p:blipFill>
        <p:spPr>
          <a:xfrm>
            <a:off x="738036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65AE-8FA5-4FBF-90E7-09020526782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pied de page 8"/>
          <p:cNvSpPr/>
          <p:nvPr/>
        </p:nvSpPr>
        <p:spPr>
          <a:xfrm>
            <a:off x="-36360" y="6519960"/>
            <a:ext cx="928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250920" y="1268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b0f0"/>
                </a:solidFill>
                <a:latin typeface="Calibri"/>
              </a:rPr>
              <a:t>The Commission's commitment to reduce st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The Commission has ta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the committment t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partner countries in reducing </a:t>
            </a: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the number of children under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suffering from stunting by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least 7 million by 20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(10% of the WHA global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3" descr=""/>
          <p:cNvPicPr/>
          <p:nvPr/>
        </p:nvPicPr>
        <p:blipFill>
          <a:blip r:embed="rId3"/>
          <a:stretch/>
        </p:blipFill>
        <p:spPr>
          <a:xfrm>
            <a:off x="3387600" y="1773360"/>
            <a:ext cx="48564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4831-A70C-4179-BA10-5DAC7948824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390600" y="1125360"/>
            <a:ext cx="8640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Communication </a:t>
            </a:r>
            <a:r>
              <a:rPr b="1" lang="en-GB" sz="2400" spc="-1" strike="noStrike">
                <a:solidFill>
                  <a:srgbClr val="00b0f0"/>
                </a:solidFill>
                <a:latin typeface="Calibri"/>
              </a:rPr>
              <a:t>"Enhancing Maternal and Child Nutrition in External Assistan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Prepared jointly between DG DEVCO and DG ECHO and built around two 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  <a:ea typeface="Arial"/>
              </a:rPr>
              <a:t>Reduction of under 5 stunted (by 7 Million in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  <a:ea typeface="Arial"/>
              </a:rPr>
              <a:t>Reduction of under 5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3 strategic prior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Enhance mobilisation and political commitment for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cale up action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trengthening the knowledge-base o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Accountability fra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Monitoring/measur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Resource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E8E-BB01-4D06-AFC7-92654F0D861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0"/>
          <p:cNvSpPr/>
          <p:nvPr/>
        </p:nvSpPr>
        <p:spPr>
          <a:xfrm>
            <a:off x="250920" y="981000"/>
            <a:ext cx="86421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Monitoring/measuring result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320760" y="1601640"/>
            <a:ext cx="378144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4365720" y="3909960"/>
            <a:ext cx="3851280" cy="273384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5"/>
          <p:cNvSpPr/>
          <p:nvPr/>
        </p:nvSpPr>
        <p:spPr>
          <a:xfrm>
            <a:off x="4356000" y="160164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Both countries have a number of ~ 5 millions stunted children in 2010 (and roughly the same prevalence: 44% vs 43%) but in order to reach the 40% WHA reduction target the AARR needed varies considerably (1.8 in Ethiopia against 6.8 in DR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6"/>
          <p:cNvSpPr/>
          <p:nvPr/>
        </p:nvSpPr>
        <p:spPr>
          <a:xfrm>
            <a:off x="320760" y="4465800"/>
            <a:ext cx="40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Stunting reduction targets to be defined at country level in order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85840">
              <a:lnSpc>
                <a:spcPct val="100000"/>
              </a:lnSpc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align Government, donor, UN, civil society and private sector eff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85840">
              <a:lnSpc>
                <a:spcPct val="100000"/>
              </a:lnSpc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et clear na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4E4D-CE4B-4893-97C9-D6399DE86C1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0"/>
          <p:cNvSpPr/>
          <p:nvPr/>
        </p:nvSpPr>
        <p:spPr>
          <a:xfrm>
            <a:off x="385920" y="901800"/>
            <a:ext cx="864072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Monitoring/measuring results 2: International Networked Information Systems on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eate a network of research institutions and organisation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nitor national and global progress in reducing undernutri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termine association between changes in stunting and financial investments (domestic and international) in nutrition; and build plausibility arguments on the (cost) effectiveness of different interventions in reducing under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the country on track to meet its national target on stunting redu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we collectively on-track to meet the global 2025 targ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progress in stunting tally with nutrition invest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programmes are associated with the greatest stunting redu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nterventions seem to be more cost-effective in terms of reducing st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9A92-B2DC-43C9-9523-C643F6B906D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385920" y="695160"/>
            <a:ext cx="8640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Resource Trac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Consistent Common Methodology for all SUN donors for regular reporting on 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The basis for broader reporting tool for all partners: from governments to civil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sp>
        <p:nvSpPr>
          <p:cNvPr id="88" name="Rounded Rectangle 11"/>
          <p:cNvSpPr/>
          <p:nvPr/>
        </p:nvSpPr>
        <p:spPr>
          <a:xfrm>
            <a:off x="912960" y="5602320"/>
            <a:ext cx="5116320" cy="8841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5ec1"/>
                </a:solidFill>
                <a:latin typeface="Calibri"/>
              </a:rPr>
              <a:t>I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nterventions addressing the underlying determinants of undernutr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13"/>
          <p:cNvSpPr/>
          <p:nvPr/>
        </p:nvSpPr>
        <p:spPr>
          <a:xfrm>
            <a:off x="987480" y="2330280"/>
            <a:ext cx="4968720" cy="7178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d5ec1"/>
                </a:solidFill>
                <a:latin typeface="Calibri"/>
              </a:rPr>
              <a:t>Nutrition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-specific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(DAC code 124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878040" y="3139920"/>
            <a:ext cx="5186160" cy="2349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d5ec1"/>
                </a:solidFill>
                <a:latin typeface="Calibri"/>
              </a:rPr>
              <a:t>Nutrition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-sensitive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Designed for nutrition/intending to improve nutri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  <a:ea typeface="Arial"/>
              </a:rPr>
              <a:t>Nutrition as the main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 algn="r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  <a:ea typeface="Arial"/>
              </a:rPr>
              <a:t>Nutrition as a significant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eft Arrow Callout 3"/>
          <p:cNvSpPr/>
          <p:nvPr/>
        </p:nvSpPr>
        <p:spPr>
          <a:xfrm>
            <a:off x="6345360" y="2490840"/>
            <a:ext cx="2160360" cy="395280"/>
          </a:xfrm>
          <a:prstGeom prst="leftArrowCallout">
            <a:avLst>
              <a:gd name="adj1" fmla="val 0"/>
              <a:gd name="adj2" fmla="val 32065"/>
              <a:gd name="adj3" fmla="val 86763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 Arrow Callout 8"/>
          <p:cNvSpPr/>
          <p:nvPr/>
        </p:nvSpPr>
        <p:spPr>
          <a:xfrm>
            <a:off x="6408720" y="3719520"/>
            <a:ext cx="2160720" cy="396720"/>
          </a:xfrm>
          <a:prstGeom prst="leftArrowCallout">
            <a:avLst>
              <a:gd name="adj1" fmla="val 0"/>
              <a:gd name="adj2" fmla="val 32065"/>
              <a:gd name="adj3" fmla="val 86463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eft Arrow Callout 9"/>
          <p:cNvSpPr/>
          <p:nvPr/>
        </p:nvSpPr>
        <p:spPr>
          <a:xfrm>
            <a:off x="6429240" y="4381560"/>
            <a:ext cx="2160720" cy="395280"/>
          </a:xfrm>
          <a:prstGeom prst="leftArrowCallout">
            <a:avLst>
              <a:gd name="adj1" fmla="val 0"/>
              <a:gd name="adj2" fmla="val 32065"/>
              <a:gd name="adj3" fmla="val 86778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 Arrow Callout 11"/>
          <p:cNvSpPr/>
          <p:nvPr/>
        </p:nvSpPr>
        <p:spPr>
          <a:xfrm>
            <a:off x="6345360" y="5846760"/>
            <a:ext cx="2160360" cy="396720"/>
          </a:xfrm>
          <a:prstGeom prst="leftArrowCallout">
            <a:avLst>
              <a:gd name="adj1" fmla="val 0"/>
              <a:gd name="adj2" fmla="val 32065"/>
              <a:gd name="adj3" fmla="val 86448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Y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conf2013</cp:lastModifiedBy>
  <dcterms:modified xsi:type="dcterms:W3CDTF">2013-05-14T10:06:17Z</dcterms:modified>
  <cp:revision>28</cp:revision>
  <dc:subject/>
  <dc:title>Diapositive 1</dc:title>
</cp:coreProperties>
</file>